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31E-7C5B-42C5-8DE8-3FC7AEEB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1E9-E766-47F9-AC01-A2880411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C3C-8206-4542-BBB4-8F1B3989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5E9-6D89-4C3C-AA1F-9F2734C2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6B92-8817-48BD-95AD-B243F3A0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C348-5506-43E9-977F-6CA2F6EC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36E5-B7EB-479C-B8B4-D1FA7F1F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EFC0-4684-41BA-8A7D-CADB1983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C040-3E90-407B-87FB-880A9036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3600-AE50-4F04-AB60-8717B06C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8A96-FE1A-406A-999C-6D9AE5C1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2A2-6B86-4085-B258-5256D2F5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B3EA-EFEB-40D3-8800-71CF35D0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5B3F-75CD-4ED4-B248-732013B6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C103-9C98-4E19-90BD-C57CE216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8804-EB15-43D0-BF53-7024EED1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39DC-4A4D-4C2E-9C21-DD3F506C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8A2-20C2-454B-88A7-9D96C284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342-EF5F-42E7-8E5F-F3D9B14B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25B-95E1-45E2-9D2C-1914EA6F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34A-49D3-4398-8C55-F566CFF8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83C-D71F-4D07-9345-F465231E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524-35FE-4954-B1E6-5C942929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E1E-B876-4487-AF19-4BA63309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BFF4-47D3-4945-9A84-88D5E1DD41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E88C-350C-44E6-9CE8-C73164911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.wikipedia.org/wiki/Fruit" TargetMode="External"/><Relationship Id="rId2" Type="http://schemas.openxmlformats.org/officeDocument/2006/relationships/hyperlink" Target="http://fr.wikipedia.org/wiki/Cornichon" TargetMode="External"/><Relationship Id="rId3" Type="http://schemas.openxmlformats.org/officeDocument/2006/relationships/hyperlink" Target="http://fr.wikipedia.org/w/index.php?title=Peter_Durand&amp;action=edit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2209680"/>
            <a:ext cx="853452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ffcc"/>
                </a:solidFill>
                <a:latin typeface="Arial"/>
              </a:rPr>
              <a:t>Démarches d’Investigation</a:t>
            </a:r>
            <a:br>
              <a:rPr sz="4800"/>
            </a:br>
            <a:r>
              <a:rPr b="1" lang="fr-FR" sz="4800" spc="-1" strike="noStrike">
                <a:solidFill>
                  <a:srgbClr val="00ffcc"/>
                </a:solidFill>
                <a:latin typeface="Arial"/>
              </a:rPr>
              <a:t>en troisiè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Arial"/>
              </a:rPr>
              <a:t>Groupe de formateurs 2007-08 de l’académie de Pari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cc"/>
                </a:solidFill>
                <a:latin typeface="Arial"/>
              </a:rPr>
              <a:t>F. Amauger - G. Bosca - G. Denis - F. Langlinay - P. Pelletier - E. Pilar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fs pédagogiques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naissance </a:t>
            </a: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L’intensité du courant électrique qui parcourt un fil conducteur ne doit pas dépasser une valeur déterminée par un critère de sécurité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7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pacité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cbcb"/>
                </a:solidFill>
                <a:latin typeface="Arial"/>
              </a:rPr>
              <a:t>Exposer le rôle d’un coupe circui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7c80"/>
                </a:solidFill>
                <a:latin typeface="Times New Roman"/>
              </a:rPr>
              <a:t>Autre</a:t>
            </a:r>
            <a:r>
              <a:rPr b="0" lang="en-US" sz="6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7c80"/>
                </a:solidFill>
                <a:latin typeface="Times New Roman"/>
              </a:rPr>
              <a:t>situation</a:t>
            </a:r>
            <a:r>
              <a:rPr b="0" lang="en-US" sz="60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n élève ouvre une boîte de conserve métallique contenant des tomates pelées pour préparer une pizza. Il découvre ceci 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43904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s seuls aliments qui peuvent être mis en conserve dans un bain d'eau bouillante sont ceux qui sont naturellement acides comme l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fruit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certains légumes du type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cornichon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ou d'autres auxquels on a ajouté de l'acide 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liquant la méthode d'Appert, l'Anglais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Peter Duran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it breveter en 1810 les boîtes en fer-blanc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80880"/>
            <a:ext cx="69339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Aide : L’élève peut trouver  ces information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7c80"/>
                </a:solidFill>
                <a:latin typeface="Times New Roman"/>
              </a:rPr>
              <a:t>Autre</a:t>
            </a:r>
            <a:r>
              <a:rPr b="0" lang="en-US" sz="6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7c80"/>
                </a:solidFill>
                <a:latin typeface="Times New Roman"/>
              </a:rPr>
              <a:t>situation</a:t>
            </a:r>
            <a:r>
              <a:rPr b="0" lang="en-US" sz="60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6858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cbcb"/>
                </a:solidFill>
                <a:latin typeface="Times New Roman"/>
              </a:rPr>
              <a:t>Une aide possible :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1337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m EDF hydrocentra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5053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ctivités possibles :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191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m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5181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m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7c80"/>
                </a:solidFill>
                <a:latin typeface="Times New Roman"/>
              </a:rPr>
              <a:t>Autre</a:t>
            </a:r>
            <a:r>
              <a:rPr b="0" lang="fr-FR" sz="5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fr-FR" sz="5400" spc="-1" strike="noStrike">
                <a:solidFill>
                  <a:srgbClr val="ff7c80"/>
                </a:solidFill>
                <a:latin typeface="Times New Roman"/>
              </a:rPr>
              <a:t>situation</a:t>
            </a:r>
            <a:r>
              <a:rPr b="0" lang="fr-FR" sz="5400" spc="-1" strike="noStrike">
                <a:solidFill>
                  <a:srgbClr val="cbcbcb"/>
                </a:solidFill>
                <a:latin typeface="Times New Roman"/>
              </a:rPr>
              <a:t> :</a:t>
            </a:r>
            <a:r>
              <a:rPr b="0" lang="fr-FR" sz="4800" spc="-1" strike="noStrike">
                <a:solidFill>
                  <a:srgbClr val="ff7c8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fr-FR" sz="4800" spc="-1" strike="noStrike">
                <a:solidFill>
                  <a:srgbClr val="ff7c80"/>
                </a:solidFill>
                <a:latin typeface="Times New Roman"/>
              </a:rPr>
              <a:t>l’éclairage</a:t>
            </a:r>
            <a:r>
              <a:rPr b="0" lang="fr-FR" sz="4400" spc="-1" strike="noStrike">
                <a:solidFill>
                  <a:srgbClr val="ff7c80"/>
                </a:solidFill>
                <a:latin typeface="Times New Roman"/>
              </a:rPr>
              <a:t> du Vélib’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62320" y="3200400"/>
            <a:ext cx="6324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lampe brille au début puis cligno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Éventuellement : on ne voit pas de dynamo de vél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762120"/>
            <a:ext cx="350496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lm 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05740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’observe-t-on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573408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5661000"/>
            <a:ext cx="266364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urquoi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36232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7c80"/>
                </a:solidFill>
                <a:latin typeface="Times New Roman"/>
              </a:rPr>
              <a:t>Le </a:t>
            </a:r>
            <a:r>
              <a:rPr b="0" lang="en-US" sz="7200" spc="-1" strike="noStrike">
                <a:solidFill>
                  <a:srgbClr val="ff7c80"/>
                </a:solidFill>
                <a:latin typeface="Times New Roman"/>
              </a:rPr>
              <a:t>fusible </a:t>
            </a:r>
            <a:r>
              <a:rPr b="1" lang="en-US" sz="7200" spc="-1" strike="noStrike">
                <a:solidFill>
                  <a:srgbClr val="ff7c80"/>
                </a:solidFill>
                <a:latin typeface="Times New Roman"/>
              </a:rPr>
              <a:t>:</a:t>
            </a:r>
            <a:br>
              <a:rPr sz="7200"/>
            </a:b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ypothèses :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5867280"/>
            <a:ext cx="1067040" cy="381240"/>
          </a:xfrm>
          <a:prstGeom prst="rightArrow">
            <a:avLst>
              <a:gd name="adj1" fmla="val 50000"/>
              <a:gd name="adj2" fmla="val 69972"/>
            </a:avLst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1197000"/>
            <a:ext cx="739152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’est grâce à une pi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’est grâce à la roue qui tour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’est dû au contact que la roue établit en tourn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’est grâce à un appareil qui transmet la force du mouvement à la D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 roue produit de l’électricité en tourna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l y a une dyna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57913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Vérification expériment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n constatera qu’à grande vitesse </a:t>
            </a:r>
            <a:br>
              <a:rPr sz="3600"/>
            </a:b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la DEL ne « semble »plus clignoter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.</a:t>
            </a:r>
            <a:br>
              <a:rPr sz="32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438280"/>
            <a:ext cx="1447560" cy="685800"/>
          </a:xfrm>
          <a:prstGeom prst="rightArrow">
            <a:avLst>
              <a:gd name="adj1" fmla="val 50000"/>
              <a:gd name="adj2" fmla="val 52769"/>
            </a:avLst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281952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’alternateu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 expliquer la production d’énergie électrique par l’alternateur de bicyclette par la transformation d’ énergie mécaniqu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2666880"/>
            <a:ext cx="1447560" cy="685800"/>
          </a:xfrm>
          <a:prstGeom prst="rightArrow">
            <a:avLst>
              <a:gd name="adj1" fmla="val 50000"/>
              <a:gd name="adj2" fmla="val 52769"/>
            </a:avLst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81952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agramme traduisant les conversions énergétiques incluant les énergies perdu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228600"/>
            <a:ext cx="2819520" cy="21337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685800"/>
            <a:ext cx="1905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Énergi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éca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470200">
            <a:off x="2514240" y="2514600"/>
            <a:ext cx="1257480" cy="519120"/>
          </a:xfrm>
          <a:prstGeom prst="rightArrow">
            <a:avLst>
              <a:gd name="adj1" fmla="val 50000"/>
              <a:gd name="adj2" fmla="val 60558"/>
            </a:avLst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709000">
            <a:off x="3467160" y="1638000"/>
            <a:ext cx="457200" cy="990720"/>
          </a:xfrm>
          <a:prstGeom prst="upArrow">
            <a:avLst>
              <a:gd name="adj1" fmla="val 50000"/>
              <a:gd name="adj2" fmla="val 54173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609480"/>
            <a:ext cx="2590920" cy="1295640"/>
          </a:xfrm>
          <a:prstGeom prst="ellipse">
            <a:avLst/>
          </a:prstGeom>
          <a:solidFill>
            <a:srgbClr val="cbcbcb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762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tes par frot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3048120"/>
            <a:ext cx="2514600" cy="16002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33526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Énergie mécanique transmise au moyeu-dyna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470200">
            <a:off x="5265360" y="4699080"/>
            <a:ext cx="1219320" cy="442800"/>
          </a:xfrm>
          <a:prstGeom prst="rightArrow">
            <a:avLst>
              <a:gd name="adj1" fmla="val 50000"/>
              <a:gd name="adj2" fmla="val 68841"/>
            </a:avLst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2743200"/>
            <a:ext cx="2590920" cy="1295280"/>
          </a:xfrm>
          <a:prstGeom prst="ellipse">
            <a:avLst/>
          </a:prstGeom>
          <a:solidFill>
            <a:srgbClr val="cbcbcb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2971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tes par frot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5105520"/>
            <a:ext cx="1981080" cy="1066680"/>
          </a:xfrm>
          <a:prstGeom prst="ellipse">
            <a:avLst/>
          </a:prstGeom>
          <a:solidFill>
            <a:srgbClr val="ff7c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257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Énergie élect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2709000">
            <a:off x="6231960" y="3868560"/>
            <a:ext cx="457200" cy="990360"/>
          </a:xfrm>
          <a:prstGeom prst="upArrow">
            <a:avLst>
              <a:gd name="adj1" fmla="val 50000"/>
              <a:gd name="adj2" fmla="val 54154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00200" y="838080"/>
            <a:ext cx="49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lques compléments 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209680"/>
            <a:ext cx="77724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bcbcb"/>
                </a:solidFill>
                <a:latin typeface="Times New Roman"/>
              </a:rPr>
              <a:t>La génératrice du Vélib’est en fait logée dans le moyeu de la roue avant, l’ensemble constituant un moyeu-dynam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bcbcb"/>
                </a:solidFill>
                <a:latin typeface="Times New Roman"/>
              </a:rPr>
              <a:t>L’avantage est la faible résistance au roulement ainsi qu’une meilleure protection (intempéries, chocs ...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Caractéristiques de la « dynamo » : </a:t>
            </a:r>
            <a:br>
              <a:rPr sz="3600"/>
            </a:b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6 V - 3 W</a:t>
            </a:r>
            <a:br>
              <a:rPr sz="3600"/>
            </a:b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LED blanche 3,5 V – 350 mA à l'AV </a:t>
            </a:r>
            <a:br>
              <a:rPr sz="3600"/>
            </a:b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LED rouge 1,85 V – 20 mA à l'AR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1338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cbcb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La persistance rétinienne explique l’absence de perception du clignotement à vitesse normal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28600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cbcbc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A l’arrêt complet, on peut constater que la DEL brille : le principe consiste à utiliser une très faible quantité du courant fourni par la dynamo pour charger un condensateur. Lorsque le vélo est à l’arrêt, le condensateur restitue l’énergie à une DEL</a:t>
            </a:r>
            <a:r>
              <a:rPr b="0" lang="en-US" sz="3200" spc="-1" strike="noStrike">
                <a:solidFill>
                  <a:srgbClr val="cbcbcb"/>
                </a:solidFill>
                <a:latin typeface="ArialMT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cbcbcb"/>
                </a:solidFill>
                <a:latin typeface="Arial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s la cuisine, Anna et sa maman constatent, alors qu’Anna venait de brancher un grille-pain, que les 4 appareils électriques connectés sur cette même prise de courant ne fonctionnent plu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ialogue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Ann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 : Maman, qu’est ce qui se passe 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ama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Ce n’est rien, nous avons dû brancher trop d’appareils en même temps sur cette multiprise dans la cuisine. La friteuse, la machine à pain, le mixeur étaient déjà branchés et fonctionnaient tous. Le grille-pain a été de trop !!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Ann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 : Que doit-on faire pour que l’électricité revienne maintenant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am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 Allons voir le compteur 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Photographie du boîtier de protection de l’installation domestique 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619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uite du dialogue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Anna :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Maman, regarde ! Il y a une étiquette, tout à gauche, avec un dessin représentant la prise de la cuisine dessus !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3352680"/>
            <a:ext cx="11905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4638600" cy="3476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Sa maman ouvre alors le petit boîtier numéro 1 et en sort ceci : </a:t>
            </a:r>
            <a:br>
              <a:rPr sz="3200"/>
            </a:b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uite du dialogue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Anna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Qu’est ce que c’est ? A quoi ça ser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Aider Anna en imaginant une expérience qui permette de comprendre le rôle de cet objet en essayant de simuler en classe la situation vécue dans la cuisi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tériels à votre disposition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résistance (qui représente le grille-pai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moteur (qui représente le mixeur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ux lampes ( qui représentent la machine à pain et la friteuse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générateur de tension 6V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lle de fer torsadé, deux pinces crocodiles et fils de connexion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1:06:35Z</dcterms:created>
  <dc:creator>emm</dc:creator>
  <dc:description/>
  <dc:language>en-US</dc:language>
  <cp:lastModifiedBy>rocherce</cp:lastModifiedBy>
  <dcterms:modified xsi:type="dcterms:W3CDTF">2008-08-08T09:58:47Z</dcterms:modified>
  <cp:revision>73</cp:revision>
  <dc:subject/>
  <dc:title>Exemple d’une démarche d’investigation:</dc:title>
</cp:coreProperties>
</file>